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E1A-C193-4AAF-AF10-0918DC8A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9AF-08F3-46F8-9F8B-F73BBF6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E71-7591-41BF-8632-BE4A1ACA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BEB-5568-4B35-93FC-E79C6BE4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FAEB-3C07-43BA-A8DB-F85F24F2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5E82-AB06-41C5-B6AF-CE4AC31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00FE-B39E-4AC0-BC96-D6ACADC6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51FD-F65A-4C03-B6F1-7C28A61E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C9B9-4F0D-41AD-B3B3-7763B4D5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C8E3-5AF0-4724-978C-C206F93A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1AD7-2A0F-4775-8DA2-C96DE1E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E1B-A892-43D6-81AF-D00CD5E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AA92-91FD-485D-9D1D-2E1DFBC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CB4-1CB9-4842-B248-735909E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6DA-D6EC-437C-B73C-7646515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986-F406-42C0-96CB-BB9FE3BC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F256-7064-49E1-BD1C-07EA534A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BE5-3FE7-4DF7-8471-170F99BE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A7B-C9BC-4A7E-93AF-C6BB891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4AD-7B26-4725-99FC-0EB5CD6F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A91-F4CB-442F-A6F4-3701AC1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693-BAD3-45CC-AB03-CB7FA3B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0A8-B752-4814-BDD7-F3F9300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214-F102-41DB-98D7-43E33F9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4D01-8086-4B59-90D5-B52647E19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9216-1A4A-4FA1-B000-B20E2EE5E7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apisywanie i czytanie wyrażeń algebraiczny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5876640"/>
            <a:ext cx="309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żena Łeb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Liczba czterocyfrow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8704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yfra tysięcy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fra sete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fra dziesiąte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fra jedności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80280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Zapisz liczbę, której cyfra tysięcy stanowi 200% cyfry jedności, cyfra setek jest o 3 większa od cyfry jedności, a cyfra dziesiątek jest 5 razy większa od cyfry jednośc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0920" y="3499920"/>
            <a:ext cx="7993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0 + (x+3)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+ 5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+ 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.245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Cele lekcji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owanie i nazywanie wyrażeń algebraiczny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ywanie treści zadania za pomocą wyrażeń algebraiczny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45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zeczytaj zapisane wyraże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373120"/>
            <a:ext cx="365904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3040" y="2016000"/>
            <a:ext cx="40273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 zmiennych a i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óżnica zmiennych a i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oczyn zmiennych a i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oraz zmiennych a i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42920" y="1989000"/>
                <a:ext cx="1584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apisz treść zadania za pomocą wyrażenia algebraiczne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urodziny Tomka przyszł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ziewczynek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łopc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isz trzy kolejne liczby parzy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wojona suma zmiennych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 y 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n, 2n+2, 2n+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 +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64640"/>
            <a:ext cx="777240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Tworzymy  zapis liczby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dwu-, trzy- i czterocyfrowej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fra dziesiąte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fra jedności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109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zba dwucyfrow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3760" y="280512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Zapisz liczbę, w której cyfra jedności jest trzy razy większa od cyfry dziesiąte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5257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516720" y="5589720"/>
            <a:ext cx="237960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.  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Liczba trzycyfrow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2707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fra setek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fra dziesiątek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f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dnośc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Zapisz liczbę, w której cyfra jedności stanowi 25% cyfry setek, a cyfrą dziesiątek jest ze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565000"/>
            <a:ext cx="72057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+ 0,25 x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5157360"/>
            <a:ext cx="3809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. 4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0:07:10Z</dcterms:created>
  <dc:creator>Pracownia_106</dc:creator>
  <dc:description/>
  <dc:language>en-US</dc:language>
  <cp:lastModifiedBy>Pracownia_106</cp:lastModifiedBy>
  <dcterms:modified xsi:type="dcterms:W3CDTF">2002-09-27T09:53:08Z</dcterms:modified>
  <cp:revision>6</cp:revision>
  <dc:subject/>
  <dc:title>Zapisywanie i czytanie wyrażeń algebraicznych</dc:title>
</cp:coreProperties>
</file>